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A05-7176-46BC-9ED5-2DAB8027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E26-ED22-4BB5-BA9D-41851EBD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5D3-4440-4EF5-8E82-05CAE7E8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103-9DC5-4D71-9695-D6B85375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331-BAAA-4F05-A918-A3909932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D47-FB4C-4133-B551-589A19F5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721-FB87-422A-A392-CAE6759D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9F8-1A87-4078-BF44-875DEA70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EF9-CD2F-4C0F-B47D-22857CB7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BB3-A843-4314-B3A5-B5C061A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D4F-700D-4A53-AB35-6E511381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2F1-5114-4A6A-AE65-2CFC28C0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179-0A89-4545-9E81-D0ADD0F92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68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ship 390 #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 Wiring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Marine 25 Inverter/Ch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140440"/>
            <a:ext cx="5791320" cy="11102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at Departure Checklist – Shore Pow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gt;Link 2000: Inverter “OFF”, Batt Charger “ON”, “AC” on light g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at Departure Checklist – Off Grid/Anch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gt;Link 2000: Inverter “OFF”.  12V Refrigerator Switch (RH Column) “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914400" y="2514600"/>
            <a:ext cx="9144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4114800"/>
            <a:ext cx="185724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462040" y="1765440"/>
            <a:ext cx="60984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09720" y="1870200"/>
            <a:ext cx="90720" cy="91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33560" y="2060640"/>
            <a:ext cx="9072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85880" y="206064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3473400">
            <a:off x="1308960" y="1755720"/>
            <a:ext cx="60984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483000">
            <a:off x="1576440" y="188928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483000">
            <a:off x="1671480" y="2095560"/>
            <a:ext cx="90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483000">
            <a:off x="1427040" y="2060640"/>
            <a:ext cx="9072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85080" y="1968480"/>
            <a:ext cx="8424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1982880"/>
            <a:ext cx="85680" cy="745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599840" y="2895480"/>
            <a:ext cx="228600" cy="1143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00040" y="43750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00040" y="47656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09760" y="516564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971800" y="4114800"/>
            <a:ext cx="1857240" cy="1541520"/>
            <a:chOff x="2971800" y="4114800"/>
            <a:chExt cx="1857240" cy="1541520"/>
          </a:xfrm>
        </p:grpSpPr>
        <p:sp>
          <p:nvSpPr>
            <p:cNvPr id="529" name=""/>
            <p:cNvSpPr/>
            <p:nvPr/>
          </p:nvSpPr>
          <p:spPr>
            <a:xfrm>
              <a:off x="2971800" y="4114800"/>
              <a:ext cx="185724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90920" y="5097960"/>
              <a:ext cx="94284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72200" y="4755600"/>
              <a:ext cx="81900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0640" y="437472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828800" y="1904760"/>
            <a:ext cx="3191040" cy="6094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105520" y="1905120"/>
            <a:ext cx="75960" cy="75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43600" y="1828800"/>
            <a:ext cx="12384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105160" y="2075040"/>
            <a:ext cx="66600" cy="515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105520" y="2152800"/>
            <a:ext cx="952560" cy="43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419720" y="3009960"/>
            <a:ext cx="628560" cy="11048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14360" y="1266840"/>
            <a:ext cx="84780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175248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828800" y="2133720"/>
            <a:ext cx="990720" cy="3808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67000" y="2143080"/>
            <a:ext cx="361800" cy="37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05520" y="2590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229360" y="1352520"/>
            <a:ext cx="84744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2895480"/>
            <a:ext cx="3124080" cy="76320"/>
          </a:xfrm>
          <a:prstGeom prst="line">
            <a:avLst/>
          </a:prstGeom>
          <a:ln w="38160">
            <a:solidFill>
              <a:srgbClr val="80808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2430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Paralle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3276720"/>
            <a:ext cx="243828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reedom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257800" y="3429000"/>
            <a:ext cx="262908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445000" y="3524400"/>
            <a:ext cx="925560" cy="361800"/>
          </a:xfrm>
          <a:prstGeom prst="rect">
            <a:avLst/>
          </a:prstGeom>
          <a:gradFill rotWithShape="0">
            <a:gsLst>
              <a:gs pos="0">
                <a:srgbClr val="ff9900">
                  <a:alpha val="90196"/>
                </a:srgbClr>
              </a:gs>
              <a:gs pos="100000">
                <a:srgbClr val="754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65840" y="353376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81640" y="4641840"/>
            <a:ext cx="509400" cy="20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291440" y="4637160"/>
            <a:ext cx="538200" cy="207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67360" y="4637160"/>
            <a:ext cx="509760" cy="207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35880" y="4635360"/>
            <a:ext cx="556920" cy="20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438880" y="480060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43880" y="4800600"/>
            <a:ext cx="274320" cy="658800"/>
          </a:xfrm>
          <a:prstGeom prst="downArrow">
            <a:avLst>
              <a:gd name="adj1" fmla="val 50000"/>
              <a:gd name="adj2" fmla="val 6003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19920" y="480060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62600" y="413064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86440" y="40258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00920" y="413064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86440" y="42544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372440" y="431172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72440" y="447372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43800" y="439740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"/>
          <p:cNvCxnSpPr>
            <a:stCxn id="565" idx="0"/>
            <a:endCxn id="572" idx="2"/>
          </p:cNvCxnSpPr>
          <p:nvPr/>
        </p:nvCxnSpPr>
        <p:spPr>
          <a:xfrm flipH="1" flipV="1" rot="5400000">
            <a:off x="5954400" y="3833640"/>
            <a:ext cx="489600" cy="1127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7020000" y="392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5" idx="4"/>
            <a:endCxn id="568" idx="0"/>
          </p:cNvCxnSpPr>
          <p:nvPr/>
        </p:nvCxnSpPr>
        <p:spPr>
          <a:xfrm>
            <a:off x="6908760" y="4299120"/>
            <a:ext cx="7200" cy="336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78" idx="4"/>
            <a:endCxn id="566" idx="0"/>
          </p:cNvCxnSpPr>
          <p:nvPr/>
        </p:nvCxnSpPr>
        <p:spPr>
          <a:xfrm flipH="1">
            <a:off x="7559280" y="4441320"/>
            <a:ext cx="72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62" idx="3"/>
            <a:endCxn id="562" idx="3"/>
          </p:cNvCxnSpPr>
          <p:nvPr/>
        </p:nvCxnSpPr>
        <p:spPr>
          <a:xfrm>
            <a:off x="7886520" y="4548240"/>
            <a:ext cx="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 flipV="1">
            <a:off x="6924600" y="4339800"/>
            <a:ext cx="4572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6440" y="43401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"/>
          <p:cNvCxnSpPr>
            <a:stCxn id="567" idx="0"/>
            <a:endCxn id="577" idx="2"/>
          </p:cNvCxnSpPr>
          <p:nvPr/>
        </p:nvCxnSpPr>
        <p:spPr>
          <a:xfrm flipH="1" flipV="1" rot="5400000">
            <a:off x="6725880" y="3990240"/>
            <a:ext cx="14220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7383600" y="480060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"/>
          <p:cNvCxnSpPr>
            <a:stCxn id="575" idx="7"/>
            <a:endCxn id="572" idx="5"/>
          </p:cNvCxnSpPr>
          <p:nvPr/>
        </p:nvCxnSpPr>
        <p:spPr>
          <a:xfrm flipH="1" flipV="1">
            <a:off x="6802200" y="4168440"/>
            <a:ext cx="12456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78" idx="3"/>
            <a:endCxn id="577" idx="1"/>
          </p:cNvCxnSpPr>
          <p:nvPr/>
        </p:nvCxnSpPr>
        <p:spPr>
          <a:xfrm flipH="1">
            <a:off x="7377840" y="4435200"/>
            <a:ext cx="17244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0" name=""/>
          <p:cNvSpPr/>
          <p:nvPr/>
        </p:nvSpPr>
        <p:spPr>
          <a:xfrm>
            <a:off x="5867280" y="413064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"/>
          <p:cNvCxnSpPr>
            <a:stCxn id="563" idx="2"/>
            <a:endCxn id="590" idx="7"/>
          </p:cNvCxnSpPr>
          <p:nvPr/>
        </p:nvCxnSpPr>
        <p:spPr>
          <a:xfrm flipH="1">
            <a:off x="5904720" y="3885840"/>
            <a:ext cx="396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>
            <a:off x="380880" y="5958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x Generator Output and Provid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Generator Load Management by Power-Share feature on side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4400" y="2514600"/>
            <a:ext cx="9144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4114800"/>
            <a:ext cx="185724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597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209960" y="1631520"/>
            <a:ext cx="807840" cy="820080"/>
            <a:chOff x="1209960" y="1631520"/>
            <a:chExt cx="807840" cy="820080"/>
          </a:xfrm>
        </p:grpSpPr>
        <p:sp>
          <p:nvSpPr>
            <p:cNvPr id="603" name=""/>
            <p:cNvSpPr/>
            <p:nvPr/>
          </p:nvSpPr>
          <p:spPr>
            <a:xfrm rot="3473400">
              <a:off x="1308960" y="1755720"/>
              <a:ext cx="6098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422000" y="1883880"/>
              <a:ext cx="348120" cy="309240"/>
              <a:chOff x="1422000" y="1883880"/>
              <a:chExt cx="348120" cy="309240"/>
            </a:xfrm>
          </p:grpSpPr>
          <p:sp>
            <p:nvSpPr>
              <p:cNvPr id="605" name=""/>
              <p:cNvSpPr/>
              <p:nvPr/>
            </p:nvSpPr>
            <p:spPr>
              <a:xfrm rot="483000">
                <a:off x="1577160" y="188964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83000">
                <a:off x="1672920" y="2095560"/>
                <a:ext cx="90720" cy="9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83000">
                <a:off x="1427760" y="206100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1485720" y="1969560"/>
                <a:ext cx="10080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1371600" y="2971800"/>
            <a:ext cx="457200" cy="10666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00040" y="43750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0A 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00040" y="47656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0A 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09760" y="516564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0A 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48120" y="4038480"/>
            <a:ext cx="1857240" cy="15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2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67240" y="5021280"/>
            <a:ext cx="942840" cy="342720"/>
          </a:xfrm>
          <a:prstGeom prst="rect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ux Battery Char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48160" y="4680000"/>
            <a:ext cx="819000" cy="245880"/>
          </a:xfrm>
          <a:prstGeom prst="rect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76600" y="4299120"/>
            <a:ext cx="819360" cy="24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0A 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057400" y="190512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05160" y="1828800"/>
            <a:ext cx="1522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067080" y="1828800"/>
            <a:ext cx="1047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5028840" y="2075040"/>
            <a:ext cx="142920" cy="51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105520" y="2152800"/>
            <a:ext cx="95256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647960" y="3009960"/>
            <a:ext cx="399960" cy="1028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314360" y="1266840"/>
            <a:ext cx="84780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7400" y="1828800"/>
            <a:ext cx="25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105520" y="2590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29360" y="1352520"/>
            <a:ext cx="84744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28800" y="2895480"/>
            <a:ext cx="3124080" cy="76320"/>
          </a:xfrm>
          <a:prstGeom prst="line">
            <a:avLst/>
          </a:prstGeom>
          <a:ln w="38160">
            <a:solidFill>
              <a:srgbClr val="ff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" y="228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ternal Supply – Inverter Ope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05120" y="3200400"/>
            <a:ext cx="243828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reedom AC 1 to AC 2 Switch 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334120" y="3352680"/>
            <a:ext cx="2628720" cy="22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21320" y="3448080"/>
            <a:ext cx="92556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42160" y="3457440"/>
            <a:ext cx="957240" cy="36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66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457960" y="4565520"/>
            <a:ext cx="5094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391520" y="4572000"/>
            <a:ext cx="614160" cy="208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043680" y="4560840"/>
            <a:ext cx="5094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29400" y="4572000"/>
            <a:ext cx="685800" cy="152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14840" y="4857840"/>
            <a:ext cx="274680" cy="657000"/>
          </a:xfrm>
          <a:prstGeom prst="upArrow">
            <a:avLst>
              <a:gd name="adj1" fmla="val 67796"/>
              <a:gd name="adj2" fmla="val 701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19840" y="4724280"/>
            <a:ext cx="274680" cy="838440"/>
          </a:xfrm>
          <a:prstGeom prst="downArrow">
            <a:avLst>
              <a:gd name="adj1" fmla="val 50000"/>
              <a:gd name="adj2" fmla="val 76311"/>
            </a:avLst>
          </a:pr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486720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38920" y="405432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962760" y="39495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77240" y="4054320"/>
            <a:ext cx="4572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962760" y="41781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48400" y="423540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448400" y="439740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620120" y="43210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"/>
          <p:cNvCxnSpPr>
            <a:stCxn id="651" idx="0"/>
            <a:endCxn id="658" idx="2"/>
          </p:cNvCxnSpPr>
          <p:nvPr/>
        </p:nvCxnSpPr>
        <p:spPr>
          <a:xfrm flipH="1" flipV="1" rot="5400000">
            <a:off x="6030360" y="375696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6" name=""/>
          <p:cNvSpPr/>
          <p:nvPr/>
        </p:nvSpPr>
        <p:spPr>
          <a:xfrm flipH="1">
            <a:off x="7086600" y="38098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61" idx="4"/>
            <a:endCxn id="654" idx="0"/>
          </p:cNvCxnSpPr>
          <p:nvPr/>
        </p:nvCxnSpPr>
        <p:spPr>
          <a:xfrm flipH="1">
            <a:off x="6971760" y="4222800"/>
            <a:ext cx="1476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64" idx="4"/>
            <a:endCxn id="652" idx="0"/>
          </p:cNvCxnSpPr>
          <p:nvPr/>
        </p:nvCxnSpPr>
        <p:spPr>
          <a:xfrm>
            <a:off x="7641720" y="4365360"/>
            <a:ext cx="57960" cy="20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48" idx="3"/>
            <a:endCxn id="648" idx="3"/>
          </p:cNvCxnSpPr>
          <p:nvPr/>
        </p:nvCxnSpPr>
        <p:spPr>
          <a:xfrm>
            <a:off x="7962480" y="4471560"/>
            <a:ext cx="1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 flipV="1">
            <a:off x="7000920" y="4264200"/>
            <a:ext cx="457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62760" y="42642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53" idx="0"/>
            <a:endCxn id="663" idx="2"/>
          </p:cNvCxnSpPr>
          <p:nvPr/>
        </p:nvCxnSpPr>
        <p:spPr>
          <a:xfrm flipH="1" flipV="1" rot="5400000">
            <a:off x="6801840" y="3914280"/>
            <a:ext cx="14184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7459560" y="4724280"/>
            <a:ext cx="274680" cy="762120"/>
          </a:xfrm>
          <a:prstGeom prst="downArrow">
            <a:avLst>
              <a:gd name="adj1" fmla="val 50000"/>
              <a:gd name="adj2" fmla="val 69364"/>
            </a:avLst>
          </a:prstGeom>
          <a:gradFill rotWithShape="0">
            <a:gsLst>
              <a:gs pos="0">
                <a:srgbClr val="fefefe"/>
              </a:gs>
              <a:gs pos="100000">
                <a:srgbClr val="ff00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>
            <a:stCxn id="664" idx="3"/>
            <a:endCxn id="670" idx="0"/>
          </p:cNvCxnSpPr>
          <p:nvPr/>
        </p:nvCxnSpPr>
        <p:spPr>
          <a:xfrm flipH="1" flipV="1">
            <a:off x="7457400" y="4263840"/>
            <a:ext cx="16884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>
            <a:off x="5943600" y="405432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49" idx="2"/>
            <a:endCxn id="675" idx="7"/>
          </p:cNvCxnSpPr>
          <p:nvPr/>
        </p:nvCxnSpPr>
        <p:spPr>
          <a:xfrm flipH="1">
            <a:off x="5981040" y="3809520"/>
            <a:ext cx="396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7" name=""/>
          <p:cNvCxnSpPr>
            <a:stCxn id="661" idx="0"/>
            <a:endCxn id="666" idx="0"/>
          </p:cNvCxnSpPr>
          <p:nvPr/>
        </p:nvCxnSpPr>
        <p:spPr>
          <a:xfrm flipV="1">
            <a:off x="6986520" y="4114440"/>
            <a:ext cx="100800" cy="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8" name=""/>
          <p:cNvSpPr/>
          <p:nvPr/>
        </p:nvSpPr>
        <p:spPr>
          <a:xfrm>
            <a:off x="228600" y="5791320"/>
            <a:ext cx="84582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er Power for House Loads - limited to 30A max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 HEATER AND AUX BATTERY CHARG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UST BE SWITCHED OF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WHEN on INVERT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90720" y="2438280"/>
            <a:ext cx="5638320" cy="2133360"/>
            <a:chOff x="990720" y="2438280"/>
            <a:chExt cx="5638320" cy="2133360"/>
          </a:xfrm>
        </p:grpSpPr>
        <p:sp>
          <p:nvSpPr>
            <p:cNvPr id="46" name=""/>
            <p:cNvSpPr/>
            <p:nvPr/>
          </p:nvSpPr>
          <p:spPr>
            <a:xfrm>
              <a:off x="990720" y="2438280"/>
              <a:ext cx="563832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19200" y="3291480"/>
              <a:ext cx="1360080" cy="511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Water Heater Main Panel 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45280" y="3803760"/>
              <a:ext cx="1095840" cy="511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0A N.O. Contactor Relay – LOAD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19200" y="2694240"/>
              <a:ext cx="1360080" cy="291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reedom AC 2 Ou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45280" y="3291480"/>
              <a:ext cx="1095840" cy="511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0A N.O. Contactor Relay – control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9" idx="2"/>
              <a:endCxn id="47" idx="0"/>
            </p:cNvCxnSpPr>
            <p:nvPr/>
          </p:nvCxnSpPr>
          <p:spPr>
            <a:xfrm>
              <a:off x="2199600" y="2985480"/>
              <a:ext cx="1080" cy="306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2" name=""/>
            <p:cNvCxnSpPr>
              <a:stCxn id="47" idx="3"/>
              <a:endCxn id="48" idx="1"/>
            </p:cNvCxnSpPr>
            <p:nvPr/>
          </p:nvCxnSpPr>
          <p:spPr>
            <a:xfrm>
              <a:off x="2878920" y="3547800"/>
              <a:ext cx="666360" cy="512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3" name=""/>
            <p:cNvSpPr/>
            <p:nvPr/>
          </p:nvSpPr>
          <p:spPr>
            <a:xfrm>
              <a:off x="5219280" y="3974400"/>
              <a:ext cx="1095840" cy="34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48" idx="3"/>
              <a:endCxn id="53" idx="1"/>
            </p:cNvCxnSpPr>
            <p:nvPr/>
          </p:nvCxnSpPr>
          <p:spPr>
            <a:xfrm>
              <a:off x="4640760" y="4059720"/>
              <a:ext cx="578520" cy="85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5" name=""/>
            <p:cNvSpPr/>
            <p:nvPr/>
          </p:nvSpPr>
          <p:spPr>
            <a:xfrm>
              <a:off x="3545280" y="2694240"/>
              <a:ext cx="1497960" cy="34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eedom AC 1 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"/>
            <p:cNvCxnSpPr>
              <a:stCxn id="55" idx="2"/>
              <a:endCxn id="50" idx="0"/>
            </p:cNvCxnSpPr>
            <p:nvPr/>
          </p:nvCxnSpPr>
          <p:spPr>
            <a:xfrm flipH="1">
              <a:off x="4093920" y="3056760"/>
              <a:ext cx="200880" cy="235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7" name=""/>
          <p:cNvSpPr/>
          <p:nvPr/>
        </p:nvSpPr>
        <p:spPr>
          <a:xfrm>
            <a:off x="990720" y="14158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? : add contactor relay to open water heater circuit except when Freedom AC 1 In is hot to ensure water can’t be heated using inverter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28600"/>
            <a:ext cx="8153280" cy="60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sic Information /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e Power supply “AC 1” and “AC 2” details not shown on diagr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e cords can be attached to inlets at the bow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A breakers, located at each inlet, provide downstream overload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lets feed the main panel through two pairs of dual-pole, break-before-make switches.  Each switch pair can connect “off, “fwd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aft”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anel source selector switch pairs labeled “A” and “B” in diagr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pairs “A” and “B” are two 30A dual-pole breakers. Each pair is interlocked to break-before-make, and permit “both-off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one-on”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both-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pair “A” selects either “AC 1 Shore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Generator” to feed to Main Panel side 1.  Switch pair “B” selects the feed to Main Panel side 2 by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all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side on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“AC 2” shore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57040"/>
            <a:ext cx="8382240" cy="623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sic Information / Notes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 Marine 25 Inverter/Charger operational detai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n automatic, internal “transfer switch”.  The inverter is “OFF” when “AC 1 IN”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AC 2 IN” are supplied pow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eedom 25 output is protected by an integral, manually reset, 30A brea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eedom’s inverter will automatically supply up to 2.5KVA when no AC is supplied.  Note: the inverter can be switched  “off” using the Link 2000 mounted fwd of the main electrical pan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1 IN” powers “AC 1 OUT” and the battery char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ower is supplied via “AC 1 IN” the Charger provides up to 130A of battery charging.  The charger does not operate from “AC 2 I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1 IN” supplies power to “AC 2 OUT”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f “AC 2 IN” is supplied power, in which case “AC 2 IN” supplies “AC 2 OUT”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represented in the small block diagram on each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eedom 25 has a “Power Share” feature that will try to limit the total load on “AC 1 IN” to 30A max. by automatically reducing the battery charger’s power demand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762120"/>
            <a:ext cx="7572240" cy="4871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220920"/>
            <a:ext cx="243864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 Internal AC 1 to AC 2 Switch 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=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590920"/>
            <a:ext cx="990720" cy="43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038480"/>
            <a:ext cx="185724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66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429000" y="990720"/>
            <a:ext cx="11430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473400">
            <a:off x="1308960" y="1755720"/>
            <a:ext cx="60984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483000">
            <a:off x="1576440" y="188928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83000">
            <a:off x="1671480" y="2095560"/>
            <a:ext cx="90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83000">
            <a:off x="1427040" y="2060640"/>
            <a:ext cx="9072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484640" y="1968480"/>
            <a:ext cx="100800" cy="101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3000" y="30481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434340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64832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9528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021200"/>
            <a:ext cx="1857600" cy="15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2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71800" y="5003640"/>
            <a:ext cx="943200" cy="343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x (legacy) Battery Char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2720" y="4648320"/>
            <a:ext cx="947880" cy="260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Water He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1520" y="428148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057400" y="188604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143320" y="1828800"/>
            <a:ext cx="190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67080" y="1905120"/>
            <a:ext cx="10476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88120" y="2500200"/>
            <a:ext cx="9180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2120" y="2075040"/>
            <a:ext cx="257040" cy="496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19440" y="2152800"/>
            <a:ext cx="638280" cy="37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952520" y="3009960"/>
            <a:ext cx="95400" cy="1028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19320"/>
            <a:ext cx="1609560" cy="314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6002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ir “A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(See Not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447920"/>
            <a:ext cx="11448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52920" y="2514600"/>
            <a:ext cx="1438200" cy="43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37160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971800"/>
            <a:ext cx="2895480" cy="763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28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ore 1 On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eeds Side 2 thru Free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BEST Dockside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638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: Automatically PARALLELS “AC 1 IN” to Main Panel Side 2 through the Freedom’s internal transfer switch.  The Freedom’s Power-Share feature can see the whole load and will adjust the battery charger demand to try to limit the total load on Shore 1 to 30A max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066680"/>
            <a:ext cx="23623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e Cord 2 not conn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276720"/>
            <a:ext cx="2629080" cy="22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5800" y="3371760"/>
            <a:ext cx="925200" cy="362160"/>
          </a:xfrm>
          <a:prstGeom prst="rect">
            <a:avLst/>
          </a:prstGeom>
          <a:gradFill rotWithShape="0">
            <a:gsLst>
              <a:gs pos="0">
                <a:srgbClr val="ff0000">
                  <a:alpha val="90196"/>
                </a:srgbClr>
              </a:gs>
              <a:gs pos="100000">
                <a:srgbClr val="75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6280" y="338148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72080" y="4489560"/>
            <a:ext cx="509760" cy="2077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81880" y="4484520"/>
            <a:ext cx="53820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7800" y="4484520"/>
            <a:ext cx="50976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6320" y="4483080"/>
            <a:ext cx="55728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29320" y="467676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67676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10360" y="4791240"/>
            <a:ext cx="274680" cy="657000"/>
          </a:xfrm>
          <a:prstGeom prst="upArrow">
            <a:avLst>
              <a:gd name="adj1" fmla="val 67796"/>
              <a:gd name="adj2" fmla="val 701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53400" y="397836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77240" y="387360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136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77240" y="410220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62880" y="41590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62880" y="43210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34240" y="424512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17" idx="0"/>
            <a:endCxn id="124" idx="2"/>
          </p:cNvCxnSpPr>
          <p:nvPr/>
        </p:nvCxnSpPr>
        <p:spPr>
          <a:xfrm flipH="1" flipV="1" rot="5400000">
            <a:off x="6144840" y="368100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7210440" y="376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4"/>
            <a:endCxn id="120" idx="0"/>
          </p:cNvCxnSpPr>
          <p:nvPr/>
        </p:nvCxnSpPr>
        <p:spPr>
          <a:xfrm>
            <a:off x="7099200" y="4146120"/>
            <a:ext cx="720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30" idx="4"/>
            <a:endCxn id="118" idx="0"/>
          </p:cNvCxnSpPr>
          <p:nvPr/>
        </p:nvCxnSpPr>
        <p:spPr>
          <a:xfrm flipH="1">
            <a:off x="7749720" y="4289400"/>
            <a:ext cx="720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4" idx="3"/>
            <a:endCxn id="114" idx="3"/>
          </p:cNvCxnSpPr>
          <p:nvPr/>
        </p:nvCxnSpPr>
        <p:spPr>
          <a:xfrm>
            <a:off x="8038800" y="43956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 flipV="1">
            <a:off x="7115040" y="4187880"/>
            <a:ext cx="457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77240" y="418788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19" idx="0"/>
            <a:endCxn id="129" idx="2"/>
          </p:cNvCxnSpPr>
          <p:nvPr/>
        </p:nvCxnSpPr>
        <p:spPr>
          <a:xfrm flipH="1" flipV="1" rot="5400000">
            <a:off x="6916320" y="3837960"/>
            <a:ext cx="14184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7574040" y="467676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7" idx="0"/>
            <a:endCxn id="124" idx="2"/>
          </p:cNvCxnSpPr>
          <p:nvPr/>
        </p:nvCxnSpPr>
        <p:spPr>
          <a:xfrm flipH="1" flipV="1">
            <a:off x="6953040" y="4000320"/>
            <a:ext cx="14832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3"/>
            <a:endCxn id="136" idx="0"/>
          </p:cNvCxnSpPr>
          <p:nvPr/>
        </p:nvCxnSpPr>
        <p:spPr>
          <a:xfrm flipH="1" flipV="1">
            <a:off x="7571880" y="4187520"/>
            <a:ext cx="16920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058080" y="397836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15" idx="2"/>
            <a:endCxn id="142" idx="7"/>
          </p:cNvCxnSpPr>
          <p:nvPr/>
        </p:nvCxnSpPr>
        <p:spPr>
          <a:xfrm flipH="1">
            <a:off x="6095160" y="3733920"/>
            <a:ext cx="396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095880" y="2209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 Narrow"/>
              </a:rPr>
              <a:t>(See Not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960" y="2275200"/>
            <a:ext cx="866520" cy="2311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 Shore 1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3880" y="1832760"/>
            <a:ext cx="694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Gen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63360" y="1756440"/>
            <a:ext cx="1075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2 On or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6160" y="2137680"/>
            <a:ext cx="775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llel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2514600"/>
            <a:ext cx="12952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038480"/>
            <a:ext cx="185760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153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3473400">
            <a:off x="1308960" y="1755720"/>
            <a:ext cx="60984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21280" y="1883520"/>
            <a:ext cx="347040" cy="308520"/>
            <a:chOff x="1421280" y="1883520"/>
            <a:chExt cx="347040" cy="308520"/>
          </a:xfrm>
        </p:grpSpPr>
        <p:sp>
          <p:nvSpPr>
            <p:cNvPr id="159" name=""/>
            <p:cNvSpPr/>
            <p:nvPr/>
          </p:nvSpPr>
          <p:spPr>
            <a:xfrm rot="483000">
              <a:off x="1576440" y="1889280"/>
              <a:ext cx="90360" cy="90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483000">
              <a:off x="1671480" y="2095560"/>
              <a:ext cx="9072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483000">
              <a:off x="1427040" y="2060640"/>
              <a:ext cx="90720" cy="90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484640" y="1968480"/>
              <a:ext cx="100800" cy="10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048120"/>
            <a:ext cx="763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8080" y="4343400"/>
            <a:ext cx="828720" cy="1038240"/>
            <a:chOff x="838080" y="4343400"/>
            <a:chExt cx="828720" cy="1038240"/>
          </a:xfrm>
        </p:grpSpPr>
        <p:sp>
          <p:nvSpPr>
            <p:cNvPr id="167" name=""/>
            <p:cNvSpPr/>
            <p:nvPr/>
          </p:nvSpPr>
          <p:spPr>
            <a:xfrm>
              <a:off x="838080" y="4343400"/>
              <a:ext cx="8193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4734000"/>
              <a:ext cx="81936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7800" y="5133960"/>
              <a:ext cx="8190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200400" y="4021200"/>
            <a:ext cx="1857240" cy="1541520"/>
            <a:chOff x="3200400" y="4021200"/>
            <a:chExt cx="1857240" cy="1541520"/>
          </a:xfrm>
        </p:grpSpPr>
        <p:sp>
          <p:nvSpPr>
            <p:cNvPr id="171" name=""/>
            <p:cNvSpPr/>
            <p:nvPr/>
          </p:nvSpPr>
          <p:spPr>
            <a:xfrm>
              <a:off x="3200400" y="4021200"/>
              <a:ext cx="185724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19520" y="5004360"/>
              <a:ext cx="94284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00800" y="4662000"/>
              <a:ext cx="81900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9240" y="428112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905120" y="1886040"/>
            <a:ext cx="3114720" cy="704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828800"/>
            <a:ext cx="15228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1828800"/>
            <a:ext cx="200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72120" y="2075040"/>
            <a:ext cx="9360" cy="363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181120" y="2152800"/>
            <a:ext cx="876600" cy="285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724280" y="3009960"/>
            <a:ext cx="324000" cy="1028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219320"/>
            <a:ext cx="10666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18288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5120" y="2133720"/>
            <a:ext cx="91440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133720"/>
            <a:ext cx="38124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438280"/>
            <a:ext cx="16002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29360" y="1066680"/>
            <a:ext cx="101916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2895480"/>
            <a:ext cx="3200400" cy="76320"/>
          </a:xfrm>
          <a:prstGeom prst="line">
            <a:avLst/>
          </a:prstGeom>
          <a:ln w="38160">
            <a:solidFill>
              <a:srgbClr val="c0c0c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3144960"/>
            <a:ext cx="243864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 Internal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=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8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ore 1 Parallel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ide 2 B4 Freedom (but: see note be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681520"/>
            <a:ext cx="81536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, but not as good as “shore 1 only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Freedom’s Power Sharer feature doesn’t see the Shore 1 load paralleled direct to side 2, and can’t adjust the battery charger demand for the side 2 usage.  Total load on Shore 1 side could exceed 30A, tripping a breaker (similar to legacy config. w/o Freedo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914400"/>
            <a:ext cx="114300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3276720"/>
            <a:ext cx="2628720" cy="22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1320" y="3371760"/>
            <a:ext cx="925560" cy="362160"/>
          </a:xfrm>
          <a:prstGeom prst="rect">
            <a:avLst/>
          </a:prstGeom>
          <a:gradFill rotWithShape="0">
            <a:gsLst>
              <a:gs pos="0">
                <a:srgbClr val="ff0000">
                  <a:alpha val="90196"/>
                </a:srgbClr>
              </a:gs>
              <a:gs pos="100000">
                <a:srgbClr val="75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2160" y="338148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57960" y="4516560"/>
            <a:ext cx="509400" cy="2077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67760" y="4484520"/>
            <a:ext cx="53784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3680" y="4516560"/>
            <a:ext cx="509400" cy="2077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11840" y="4483080"/>
            <a:ext cx="55728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16640" y="467676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1984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67676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3892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62760" y="38736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77240" y="3978360"/>
            <a:ext cx="4572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62760" y="41022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48400" y="415908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48400" y="432108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20120" y="424512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09" idx="0"/>
            <a:endCxn id="216" idx="2"/>
          </p:cNvCxnSpPr>
          <p:nvPr/>
        </p:nvCxnSpPr>
        <p:spPr>
          <a:xfrm flipH="1" flipV="1" rot="5400000">
            <a:off x="6018120" y="3695400"/>
            <a:ext cx="516600" cy="112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7095960" y="376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9" idx="4"/>
            <a:endCxn id="212" idx="0"/>
          </p:cNvCxnSpPr>
          <p:nvPr/>
        </p:nvCxnSpPr>
        <p:spPr>
          <a:xfrm>
            <a:off x="6984720" y="4146120"/>
            <a:ext cx="684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22" idx="4"/>
            <a:endCxn id="210" idx="0"/>
          </p:cNvCxnSpPr>
          <p:nvPr/>
        </p:nvCxnSpPr>
        <p:spPr>
          <a:xfrm flipH="1">
            <a:off x="7635240" y="4289400"/>
            <a:ext cx="684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06" idx="3"/>
            <a:endCxn id="206" idx="3"/>
          </p:cNvCxnSpPr>
          <p:nvPr/>
        </p:nvCxnSpPr>
        <p:spPr>
          <a:xfrm>
            <a:off x="7962480" y="4395960"/>
            <a:ext cx="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 flipV="1">
            <a:off x="7000920" y="4187880"/>
            <a:ext cx="457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62760" y="418788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11" idx="0"/>
            <a:endCxn id="221" idx="2"/>
          </p:cNvCxnSpPr>
          <p:nvPr/>
        </p:nvCxnSpPr>
        <p:spPr>
          <a:xfrm flipH="1" flipV="1" rot="5400000">
            <a:off x="6787080" y="3854880"/>
            <a:ext cx="173880" cy="1149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745956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19" idx="0"/>
            <a:endCxn id="216" idx="0"/>
          </p:cNvCxnSpPr>
          <p:nvPr/>
        </p:nvCxnSpPr>
        <p:spPr>
          <a:xfrm flipH="1" flipV="1">
            <a:off x="6862320" y="3978000"/>
            <a:ext cx="12456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2" idx="3"/>
            <a:endCxn id="221" idx="7"/>
          </p:cNvCxnSpPr>
          <p:nvPr/>
        </p:nvCxnSpPr>
        <p:spPr>
          <a:xfrm flipH="1">
            <a:off x="7486200" y="4282920"/>
            <a:ext cx="140400" cy="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594360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07" idx="2"/>
            <a:endCxn id="234" idx="7"/>
          </p:cNvCxnSpPr>
          <p:nvPr/>
        </p:nvCxnSpPr>
        <p:spPr>
          <a:xfrm flipH="1">
            <a:off x="5982480" y="3733920"/>
            <a:ext cx="252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540720" y="1832760"/>
            <a:ext cx="79020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Shore 1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3880" y="1832760"/>
            <a:ext cx="694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Gen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20920" y="2061360"/>
            <a:ext cx="77364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Parallel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30960" y="183276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Shore 2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2514600"/>
            <a:ext cx="1219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242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473400">
            <a:off x="1308960" y="1755720"/>
            <a:ext cx="60984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483000">
            <a:off x="1576440" y="1889280"/>
            <a:ext cx="9036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483000">
            <a:off x="1671480" y="2095560"/>
            <a:ext cx="90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483000">
            <a:off x="1427040" y="2060640"/>
            <a:ext cx="90720" cy="90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3048120"/>
            <a:ext cx="47880" cy="94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33520" y="4038480"/>
            <a:ext cx="1857240" cy="1466640"/>
            <a:chOff x="533520" y="4038480"/>
            <a:chExt cx="1857240" cy="1466640"/>
          </a:xfrm>
        </p:grpSpPr>
        <p:sp>
          <p:nvSpPr>
            <p:cNvPr id="254" name=""/>
            <p:cNvSpPr/>
            <p:nvPr/>
          </p:nvSpPr>
          <p:spPr>
            <a:xfrm>
              <a:off x="533520" y="4038480"/>
              <a:ext cx="1857240" cy="1466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1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43040" y="4298760"/>
              <a:ext cx="828720" cy="1038240"/>
              <a:chOff x="743040" y="4298760"/>
              <a:chExt cx="828720" cy="103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43040" y="4298760"/>
                <a:ext cx="8193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30A Break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3040" y="4689360"/>
                <a:ext cx="819360" cy="24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30A Break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52760" y="5089320"/>
                <a:ext cx="8190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30A Break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3200400" y="4021200"/>
            <a:ext cx="1857240" cy="1541520"/>
            <a:chOff x="3200400" y="4021200"/>
            <a:chExt cx="1857240" cy="1541520"/>
          </a:xfrm>
        </p:grpSpPr>
        <p:sp>
          <p:nvSpPr>
            <p:cNvPr id="260" name=""/>
            <p:cNvSpPr/>
            <p:nvPr/>
          </p:nvSpPr>
          <p:spPr>
            <a:xfrm>
              <a:off x="3200400" y="4021200"/>
              <a:ext cx="185724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19520" y="5004360"/>
              <a:ext cx="94284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00800" y="4662000"/>
              <a:ext cx="81900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29240" y="428112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057400" y="188604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105160" y="1828800"/>
            <a:ext cx="1522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72120" y="2075040"/>
            <a:ext cx="85680" cy="43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57440" y="2152800"/>
            <a:ext cx="800280" cy="2854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724280" y="3009960"/>
            <a:ext cx="324000" cy="10285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143000"/>
            <a:ext cx="847800" cy="2379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1752480"/>
            <a:ext cx="25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295280"/>
            <a:ext cx="343080" cy="5619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1371600"/>
            <a:ext cx="763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251460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29360" y="1066680"/>
            <a:ext cx="847440" cy="238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2971800"/>
            <a:ext cx="2971800" cy="0"/>
          </a:xfrm>
          <a:prstGeom prst="line">
            <a:avLst/>
          </a:prstGeom>
          <a:ln w="38160">
            <a:solidFill>
              <a:srgbClr val="c0c0c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28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ore 1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hor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ine if two 30A dock cord/supplie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3144960"/>
            <a:ext cx="243864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 Internal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2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3324240"/>
            <a:ext cx="262872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21320" y="3419640"/>
            <a:ext cx="925560" cy="361800"/>
          </a:xfrm>
          <a:prstGeom prst="rect">
            <a:avLst/>
          </a:prstGeom>
          <a:gradFill rotWithShape="0">
            <a:gsLst>
              <a:gs pos="0">
                <a:srgbClr val="ff0000">
                  <a:alpha val="90196"/>
                </a:srgbClr>
              </a:gs>
              <a:gs pos="100000">
                <a:srgbClr val="75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42160" y="342900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57960" y="4537080"/>
            <a:ext cx="50940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67760" y="4532400"/>
            <a:ext cx="537840" cy="207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3680" y="4532400"/>
            <a:ext cx="509400" cy="207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11840" y="4530600"/>
            <a:ext cx="557280" cy="2080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16640" y="469584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9840" y="469584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469584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38920" y="40258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62760" y="392112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7240" y="4025880"/>
            <a:ext cx="4572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62760" y="414972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48400" y="420696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48400" y="436896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0120" y="429264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294" idx="0"/>
            <a:endCxn id="301" idx="2"/>
          </p:cNvCxnSpPr>
          <p:nvPr/>
        </p:nvCxnSpPr>
        <p:spPr>
          <a:xfrm flipH="1" flipV="1" rot="5400000">
            <a:off x="6030360" y="372852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7095960" y="381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4" idx="4"/>
            <a:endCxn id="297" idx="0"/>
          </p:cNvCxnSpPr>
          <p:nvPr/>
        </p:nvCxnSpPr>
        <p:spPr>
          <a:xfrm>
            <a:off x="6984720" y="4193640"/>
            <a:ext cx="684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7" idx="4"/>
            <a:endCxn id="295" idx="0"/>
          </p:cNvCxnSpPr>
          <p:nvPr/>
        </p:nvCxnSpPr>
        <p:spPr>
          <a:xfrm flipH="1">
            <a:off x="7635240" y="4336560"/>
            <a:ext cx="684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291" idx="3"/>
            <a:endCxn id="291" idx="3"/>
          </p:cNvCxnSpPr>
          <p:nvPr/>
        </p:nvCxnSpPr>
        <p:spPr>
          <a:xfrm>
            <a:off x="7962480" y="4443480"/>
            <a:ext cx="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 flipV="1">
            <a:off x="7000920" y="4235040"/>
            <a:ext cx="4572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62760" y="423540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296" idx="0"/>
            <a:endCxn id="306" idx="2"/>
          </p:cNvCxnSpPr>
          <p:nvPr/>
        </p:nvCxnSpPr>
        <p:spPr>
          <a:xfrm flipH="1" flipV="1" rot="5400000">
            <a:off x="6801840" y="3885480"/>
            <a:ext cx="14220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7459560" y="469584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314" idx="0"/>
            <a:endCxn id="301" idx="4"/>
          </p:cNvCxnSpPr>
          <p:nvPr/>
        </p:nvCxnSpPr>
        <p:spPr>
          <a:xfrm flipH="1" flipV="1">
            <a:off x="6862320" y="4070160"/>
            <a:ext cx="12456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7" idx="3"/>
            <a:endCxn id="306" idx="5"/>
          </p:cNvCxnSpPr>
          <p:nvPr/>
        </p:nvCxnSpPr>
        <p:spPr>
          <a:xfrm flipH="1">
            <a:off x="7486200" y="4330440"/>
            <a:ext cx="140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5943600" y="40258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"/>
          <p:cNvCxnSpPr>
            <a:stCxn id="292" idx="2"/>
            <a:endCxn id="319" idx="7"/>
          </p:cNvCxnSpPr>
          <p:nvPr/>
        </p:nvCxnSpPr>
        <p:spPr>
          <a:xfrm flipH="1">
            <a:off x="5982480" y="3781080"/>
            <a:ext cx="252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40720" y="1832760"/>
            <a:ext cx="79020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Shore 1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53880" y="1909080"/>
            <a:ext cx="694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Gen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1680" y="1680480"/>
            <a:ext cx="79020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2 On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96160" y="2061360"/>
            <a:ext cx="775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llel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248" idx="3"/>
            <a:endCxn id="250" idx="0"/>
          </p:cNvCxnSpPr>
          <p:nvPr/>
        </p:nvCxnSpPr>
        <p:spPr>
          <a:xfrm flipH="1">
            <a:off x="1477440" y="1960560"/>
            <a:ext cx="107280" cy="100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280" idx="0"/>
            <a:endCxn id="266" idx="7"/>
          </p:cNvCxnSpPr>
          <p:nvPr/>
        </p:nvCxnSpPr>
        <p:spPr>
          <a:xfrm flipH="1">
            <a:off x="6116400" y="1876320"/>
            <a:ext cx="94320" cy="19944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14400" y="2514600"/>
            <a:ext cx="9144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4095720"/>
            <a:ext cx="1857240" cy="146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462040" y="1765440"/>
            <a:ext cx="609840" cy="533160"/>
            <a:chOff x="2462040" y="1765440"/>
            <a:chExt cx="609840" cy="533160"/>
          </a:xfrm>
        </p:grpSpPr>
        <p:sp>
          <p:nvSpPr>
            <p:cNvPr id="331" name=""/>
            <p:cNvSpPr/>
            <p:nvPr/>
          </p:nvSpPr>
          <p:spPr>
            <a:xfrm>
              <a:off x="2462040" y="1765440"/>
              <a:ext cx="60984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09000" y="187020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32840" y="2060640"/>
              <a:ext cx="90720" cy="91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85160" y="2060640"/>
              <a:ext cx="9072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209960" y="1631520"/>
            <a:ext cx="807840" cy="820080"/>
            <a:chOff x="1209960" y="1631520"/>
            <a:chExt cx="807840" cy="820080"/>
          </a:xfrm>
        </p:grpSpPr>
        <p:sp>
          <p:nvSpPr>
            <p:cNvPr id="337" name=""/>
            <p:cNvSpPr/>
            <p:nvPr/>
          </p:nvSpPr>
          <p:spPr>
            <a:xfrm rot="3473400">
              <a:off x="1308960" y="1755720"/>
              <a:ext cx="6098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422000" y="1883880"/>
              <a:ext cx="348120" cy="309240"/>
              <a:chOff x="1422000" y="1883880"/>
              <a:chExt cx="348120" cy="309240"/>
            </a:xfrm>
          </p:grpSpPr>
          <p:sp>
            <p:nvSpPr>
              <p:cNvPr id="339" name=""/>
              <p:cNvSpPr/>
              <p:nvPr/>
            </p:nvSpPr>
            <p:spPr>
              <a:xfrm rot="483000">
                <a:off x="1577160" y="188964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483000">
                <a:off x="1672920" y="2095560"/>
                <a:ext cx="90720" cy="9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83000">
                <a:off x="1427760" y="206100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1485720" y="1969560"/>
                <a:ext cx="10080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599840" y="3276720"/>
            <a:ext cx="152280" cy="99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3320" y="439092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3320" y="478152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3040" y="518148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4038480"/>
            <a:ext cx="1857600" cy="1541520"/>
            <a:chOff x="2895480" y="4038480"/>
            <a:chExt cx="1857600" cy="1541520"/>
          </a:xfrm>
        </p:grpSpPr>
        <p:sp>
          <p:nvSpPr>
            <p:cNvPr id="350" name=""/>
            <p:cNvSpPr/>
            <p:nvPr/>
          </p:nvSpPr>
          <p:spPr>
            <a:xfrm>
              <a:off x="2895480" y="4038480"/>
              <a:ext cx="18576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14960" y="5021640"/>
              <a:ext cx="94320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95880" y="4679280"/>
              <a:ext cx="81936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24320" y="429840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057400" y="188604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105160" y="1828800"/>
            <a:ext cx="1522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067080" y="1905120"/>
            <a:ext cx="104760" cy="1616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72120" y="2075040"/>
            <a:ext cx="237960" cy="43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410080" y="2152800"/>
            <a:ext cx="648000" cy="36180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571640" y="3124080"/>
            <a:ext cx="609480" cy="90504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1266840"/>
            <a:ext cx="167652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 not conn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00160" y="212724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81480" y="2590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29360" y="1352520"/>
            <a:ext cx="847440" cy="238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2819160"/>
            <a:ext cx="3352680" cy="75960"/>
          </a:xfrm>
          <a:prstGeom prst="line">
            <a:avLst/>
          </a:prstGeom>
          <a:ln w="38160">
            <a:solidFill>
              <a:srgbClr val="c0c0c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28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e 2 Only – Not Usual, but not hazard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2971800"/>
            <a:ext cx="2438640" cy="1014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 Internal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C 1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2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3276720"/>
            <a:ext cx="2629080" cy="22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69040" y="3371760"/>
            <a:ext cx="92556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89880" y="338148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05320" y="4489560"/>
            <a:ext cx="509760" cy="2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15120" y="4484520"/>
            <a:ext cx="538200" cy="20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1040" y="4484520"/>
            <a:ext cx="509760" cy="20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59560" y="4483080"/>
            <a:ext cx="55728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62560" y="478152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667560" y="47815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4648320"/>
            <a:ext cx="274680" cy="657000"/>
          </a:xfrm>
          <a:prstGeom prst="upArrow">
            <a:avLst>
              <a:gd name="adj1" fmla="val 67796"/>
              <a:gd name="adj2" fmla="val 7011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8664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10480" y="38736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2460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10480" y="410220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96120" y="415908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96120" y="432108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67480" y="424512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85" idx="0"/>
            <a:endCxn id="392" idx="2"/>
          </p:cNvCxnSpPr>
          <p:nvPr/>
        </p:nvCxnSpPr>
        <p:spPr>
          <a:xfrm flipH="1" flipV="1" rot="5400000">
            <a:off x="5878080" y="368100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6943680" y="3768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5" idx="4"/>
            <a:endCxn id="388" idx="0"/>
          </p:cNvCxnSpPr>
          <p:nvPr/>
        </p:nvCxnSpPr>
        <p:spPr>
          <a:xfrm>
            <a:off x="6832440" y="4146120"/>
            <a:ext cx="720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398" idx="4"/>
            <a:endCxn id="386" idx="0"/>
          </p:cNvCxnSpPr>
          <p:nvPr/>
        </p:nvCxnSpPr>
        <p:spPr>
          <a:xfrm flipH="1">
            <a:off x="7482960" y="4289400"/>
            <a:ext cx="7200" cy="195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382" idx="3"/>
            <a:endCxn id="382" idx="3"/>
          </p:cNvCxnSpPr>
          <p:nvPr/>
        </p:nvCxnSpPr>
        <p:spPr>
          <a:xfrm>
            <a:off x="7810200" y="4395960"/>
            <a:ext cx="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4" name=""/>
          <p:cNvSpPr/>
          <p:nvPr/>
        </p:nvSpPr>
        <p:spPr>
          <a:xfrm flipV="1">
            <a:off x="6848640" y="4187880"/>
            <a:ext cx="4572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10480" y="418788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387" idx="0"/>
            <a:endCxn id="397" idx="2"/>
          </p:cNvCxnSpPr>
          <p:nvPr/>
        </p:nvCxnSpPr>
        <p:spPr>
          <a:xfrm flipH="1" flipV="1" rot="5400000">
            <a:off x="6649560" y="3837960"/>
            <a:ext cx="141840" cy="11516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730728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"/>
          <p:cNvCxnSpPr>
            <a:stCxn id="405" idx="0"/>
          </p:cNvCxnSpPr>
          <p:nvPr/>
        </p:nvCxnSpPr>
        <p:spPr>
          <a:xfrm flipH="1" flipV="1">
            <a:off x="6830280" y="3879360"/>
            <a:ext cx="396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8" idx="3"/>
            <a:endCxn id="397" idx="1"/>
          </p:cNvCxnSpPr>
          <p:nvPr/>
        </p:nvCxnSpPr>
        <p:spPr>
          <a:xfrm flipH="1">
            <a:off x="7302240" y="4282920"/>
            <a:ext cx="172080" cy="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5791320" y="3978360"/>
            <a:ext cx="460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383" idx="2"/>
            <a:endCxn id="410" idx="7"/>
          </p:cNvCxnSpPr>
          <p:nvPr/>
        </p:nvCxnSpPr>
        <p:spPr>
          <a:xfrm flipH="1">
            <a:off x="5829120" y="3733920"/>
            <a:ext cx="360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413280" y="1680480"/>
            <a:ext cx="1075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1 On or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53880" y="1756440"/>
            <a:ext cx="694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 Gen 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55720" y="1604160"/>
            <a:ext cx="79020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2 On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96160" y="2061360"/>
            <a:ext cx="775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llel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90720" y="2590920"/>
            <a:ext cx="9144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1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943440"/>
            <a:ext cx="1857240" cy="146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at AC 1 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47168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62040" y="1765440"/>
            <a:ext cx="60984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709720" y="1870200"/>
            <a:ext cx="90720" cy="91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33560" y="2060640"/>
            <a:ext cx="9072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85880" y="206064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990720"/>
            <a:ext cx="971640" cy="419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kw Gener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209960" y="1631520"/>
            <a:ext cx="807840" cy="820080"/>
            <a:chOff x="1209960" y="1631520"/>
            <a:chExt cx="807840" cy="820080"/>
          </a:xfrm>
        </p:grpSpPr>
        <p:sp>
          <p:nvSpPr>
            <p:cNvPr id="425" name=""/>
            <p:cNvSpPr/>
            <p:nvPr/>
          </p:nvSpPr>
          <p:spPr>
            <a:xfrm rot="3473400">
              <a:off x="1308960" y="1755720"/>
              <a:ext cx="6098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422000" y="1883880"/>
              <a:ext cx="348120" cy="309240"/>
              <a:chOff x="1422000" y="1883880"/>
              <a:chExt cx="348120" cy="309240"/>
            </a:xfrm>
          </p:grpSpPr>
          <p:sp>
            <p:nvSpPr>
              <p:cNvPr id="427" name=""/>
              <p:cNvSpPr/>
              <p:nvPr/>
            </p:nvSpPr>
            <p:spPr>
              <a:xfrm rot="483000">
                <a:off x="1577160" y="188964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483000">
                <a:off x="1672920" y="2095560"/>
                <a:ext cx="90720" cy="9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483000">
                <a:off x="1427760" y="2061000"/>
                <a:ext cx="90720" cy="914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485720" y="1969560"/>
                <a:ext cx="10080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 flipH="1">
            <a:off x="2647440" y="1982880"/>
            <a:ext cx="860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2895480"/>
            <a:ext cx="0" cy="990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45000" y="14619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24080" y="420372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24080" y="4594320"/>
            <a:ext cx="81900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33440" y="4994280"/>
            <a:ext cx="8193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A Brea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124080" y="3886200"/>
            <a:ext cx="1857600" cy="1541520"/>
            <a:chOff x="3124080" y="3886200"/>
            <a:chExt cx="1857600" cy="1541520"/>
          </a:xfrm>
        </p:grpSpPr>
        <p:sp>
          <p:nvSpPr>
            <p:cNvPr id="438" name=""/>
            <p:cNvSpPr/>
            <p:nvPr/>
          </p:nvSpPr>
          <p:spPr>
            <a:xfrm>
              <a:off x="3124080" y="3886200"/>
              <a:ext cx="18576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at AC 2 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43560" y="4869360"/>
              <a:ext cx="943200" cy="342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ux Battery Char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24480" y="4527000"/>
              <a:ext cx="81936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ter Hea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2920" y="4146120"/>
              <a:ext cx="81900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0A Brea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792760" y="1703520"/>
            <a:ext cx="5796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6080" y="182556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39000" y="206208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45200" y="1828800"/>
            <a:ext cx="90360" cy="92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88080" y="1703520"/>
            <a:ext cx="57924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91040" y="1825560"/>
            <a:ext cx="9072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33960" y="2016000"/>
            <a:ext cx="90360" cy="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40160" y="1828800"/>
            <a:ext cx="907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057400" y="1905120"/>
            <a:ext cx="2962440" cy="704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105160" y="1828800"/>
            <a:ext cx="1522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067080" y="1828800"/>
            <a:ext cx="1047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105160" y="2075040"/>
            <a:ext cx="66600" cy="51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181120" y="2152800"/>
            <a:ext cx="87660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724280" y="3009960"/>
            <a:ext cx="324000" cy="79992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4360" y="1266840"/>
            <a:ext cx="84780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09960" y="141300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000160" y="2127240"/>
            <a:ext cx="257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62680" y="1571760"/>
            <a:ext cx="247680" cy="28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76360" y="1552680"/>
            <a:ext cx="123840" cy="35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43200" y="1219320"/>
            <a:ext cx="657360" cy="6858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000160" y="2133720"/>
            <a:ext cx="819360" cy="4474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67000" y="2143080"/>
            <a:ext cx="523800" cy="447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2590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eed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 2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C 1, or AC 2 pass thr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1295280"/>
            <a:ext cx="17524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re Cord 2 not conn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21280" y="1509840"/>
            <a:ext cx="9216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97520" y="297648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2895480"/>
            <a:ext cx="3047760" cy="76320"/>
          </a:xfrm>
          <a:prstGeom prst="line">
            <a:avLst/>
          </a:prstGeom>
          <a:ln w="38160">
            <a:solidFill>
              <a:srgbClr val="ff99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2430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paralle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33720" y="3068640"/>
            <a:ext cx="2438280" cy="73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reedom AC 1 to AC 2 Switch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2 out  =  AC 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562720"/>
            <a:ext cx="84582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Generator Load Management – But limited to 30A 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hare feature sees whole load, adjusts battery charger load to try to limit the total generator load to 30A.  Over 30A total load may trip a brea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3247920"/>
            <a:ext cx="262908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97640" y="3343320"/>
            <a:ext cx="925560" cy="361800"/>
          </a:xfrm>
          <a:prstGeom prst="rect">
            <a:avLst/>
          </a:prstGeom>
          <a:gradFill rotWithShape="0">
            <a:gsLst>
              <a:gs pos="0">
                <a:srgbClr val="ff9900">
                  <a:alpha val="90196"/>
                </a:srgbClr>
              </a:gs>
              <a:gs pos="100000">
                <a:srgbClr val="754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18480" y="3352680"/>
            <a:ext cx="95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of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33920" y="4460760"/>
            <a:ext cx="509760" cy="20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43720" y="4456080"/>
            <a:ext cx="538200" cy="20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19640" y="4456080"/>
            <a:ext cx="50976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in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88160" y="4454640"/>
            <a:ext cx="557280" cy="207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 out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91160" y="4648320"/>
            <a:ext cx="274680" cy="657000"/>
          </a:xfrm>
          <a:prstGeom prst="upArrow">
            <a:avLst>
              <a:gd name="adj1" fmla="val 67796"/>
              <a:gd name="adj2" fmla="val 7011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9616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72200" y="4762440"/>
            <a:ext cx="274680" cy="657360"/>
          </a:xfrm>
          <a:prstGeom prst="upArrow">
            <a:avLst>
              <a:gd name="adj1" fmla="val 67796"/>
              <a:gd name="adj2" fmla="val 701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15240" y="39495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39080" y="384480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53200" y="39495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039080" y="407340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24720" y="413064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24720" y="4292640"/>
            <a:ext cx="4464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216320"/>
            <a:ext cx="4464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75" idx="0"/>
            <a:endCxn id="482" idx="2"/>
          </p:cNvCxnSpPr>
          <p:nvPr/>
        </p:nvCxnSpPr>
        <p:spPr>
          <a:xfrm flipH="1" flipV="1" rot="5400000">
            <a:off x="6106680" y="3652200"/>
            <a:ext cx="489600" cy="1127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7172280" y="374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"/>
          <p:cNvCxnSpPr>
            <a:stCxn id="485" idx="4"/>
            <a:endCxn id="478" idx="0"/>
          </p:cNvCxnSpPr>
          <p:nvPr/>
        </p:nvCxnSpPr>
        <p:spPr>
          <a:xfrm>
            <a:off x="7061040" y="4117680"/>
            <a:ext cx="720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2" name=""/>
          <p:cNvCxnSpPr>
            <a:stCxn id="488" idx="4"/>
            <a:endCxn id="476" idx="0"/>
          </p:cNvCxnSpPr>
          <p:nvPr/>
        </p:nvCxnSpPr>
        <p:spPr>
          <a:xfrm flipH="1">
            <a:off x="7711560" y="4260960"/>
            <a:ext cx="7200" cy="195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3" name=""/>
          <p:cNvCxnSpPr>
            <a:stCxn id="472" idx="3"/>
            <a:endCxn id="472" idx="3"/>
          </p:cNvCxnSpPr>
          <p:nvPr/>
        </p:nvCxnSpPr>
        <p:spPr>
          <a:xfrm>
            <a:off x="8038800" y="4366800"/>
            <a:ext cx="1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 flipV="1">
            <a:off x="7077240" y="4158720"/>
            <a:ext cx="4572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9080" y="415908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"/>
          <p:cNvCxnSpPr>
            <a:stCxn id="477" idx="0"/>
            <a:endCxn id="487" idx="2"/>
          </p:cNvCxnSpPr>
          <p:nvPr/>
        </p:nvCxnSpPr>
        <p:spPr>
          <a:xfrm flipH="1" flipV="1" rot="5400000">
            <a:off x="6878160" y="3809520"/>
            <a:ext cx="141840" cy="1151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7" name=""/>
          <p:cNvSpPr/>
          <p:nvPr/>
        </p:nvSpPr>
        <p:spPr>
          <a:xfrm>
            <a:off x="7535880" y="4648320"/>
            <a:ext cx="274680" cy="658800"/>
          </a:xfrm>
          <a:prstGeom prst="downArrow">
            <a:avLst>
              <a:gd name="adj1" fmla="val 50000"/>
              <a:gd name="adj2" fmla="val 5996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#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5" idx="0"/>
            <a:endCxn id="482" idx="1"/>
          </p:cNvCxnSpPr>
          <p:nvPr/>
        </p:nvCxnSpPr>
        <p:spPr>
          <a:xfrm flipH="1" flipV="1">
            <a:off x="6920640" y="3955680"/>
            <a:ext cx="14220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"/>
          <p:cNvCxnSpPr>
            <a:stCxn id="488" idx="3"/>
            <a:endCxn id="494" idx="0"/>
          </p:cNvCxnSpPr>
          <p:nvPr/>
        </p:nvCxnSpPr>
        <p:spPr>
          <a:xfrm flipH="1" flipV="1">
            <a:off x="7533720" y="4158360"/>
            <a:ext cx="16884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6019920" y="3949560"/>
            <a:ext cx="460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73" idx="2"/>
            <a:endCxn id="500" idx="7"/>
          </p:cNvCxnSpPr>
          <p:nvPr/>
        </p:nvCxnSpPr>
        <p:spPr>
          <a:xfrm flipH="1">
            <a:off x="6059160" y="3704760"/>
            <a:ext cx="216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615600" y="1756440"/>
            <a:ext cx="8208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1 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54960" y="1832760"/>
            <a:ext cx="65448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 On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1320" y="1837440"/>
            <a:ext cx="1075320" cy="21564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e 2 On or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196160" y="2137680"/>
            <a:ext cx="775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llel Off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"/>
          <p:cNvCxnSpPr>
            <a:stCxn id="450" idx="0"/>
            <a:endCxn id="450" idx="0"/>
          </p:cNvCxnSpPr>
          <p:nvPr/>
        </p:nvCxnSpPr>
        <p:spPr>
          <a:xfrm>
            <a:off x="2057040" y="2638080"/>
            <a:ext cx="1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50" idx="0"/>
            <a:endCxn id="450" idx="0"/>
          </p:cNvCxnSpPr>
          <p:nvPr/>
        </p:nvCxnSpPr>
        <p:spPr>
          <a:xfrm>
            <a:off x="2057040" y="2638080"/>
            <a:ext cx="1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61" idx="0"/>
            <a:endCxn id="462" idx="0"/>
          </p:cNvCxnSpPr>
          <p:nvPr/>
        </p:nvCxnSpPr>
        <p:spPr>
          <a:xfrm>
            <a:off x="2743200" y="1942920"/>
            <a:ext cx="76680" cy="153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4:00:12Z</dcterms:created>
  <dc:creator>James Millar</dc:creator>
  <dc:description/>
  <dc:language>en-US</dc:language>
  <cp:lastModifiedBy>James Millar</cp:lastModifiedBy>
  <dcterms:modified xsi:type="dcterms:W3CDTF">2008-04-24T06:26:16Z</dcterms:modified>
  <cp:revision>10</cp:revision>
  <dc:subject/>
  <dc:title>Slide 1</dc:title>
</cp:coreProperties>
</file>